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9BD0-3870-41C6-986E-2F709E2886CB}" type="datetime">
              <a:rPr b="0" lang="zh-CN" sz="1200" spc="-1" strike="noStrike">
                <a:solidFill>
                  <a:srgbClr val="000000"/>
                </a:solidFill>
                <a:latin typeface="Times New Roman"/>
                <a:ea typeface="Arial"/>
              </a:rPr>
              <a:t>26/7/30</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D84C-128D-4BC0-95EE-E1C56A556280}"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1585-ACAB-4A3B-B93D-A193CF0C98E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86A82-C8A2-40AC-BC3D-FC7D79FB78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290DB3-76EE-41E0-B1F0-EEC58CFD5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205E655-7AF2-4F50-9018-1D69EFD813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F199BF-D68C-4451-A098-259B8BCDF4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CCC2EB-6625-4661-9B53-C2011864E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F94B51-4DE3-43E4-AC78-4BA723F22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C9A465-38E9-4A50-A335-C9F2B13D6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7BF211-809A-4DD6-9AA8-9C3D827A2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CC737C-6F10-4CDB-B923-7CB9A8E8A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E4A2EE-42BC-47F4-953B-C9BF94AE8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F6D284-A9FE-4E75-9A76-572493AA06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5E2A44-0C99-4657-AAB6-FBE9A70D0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477F9-BBA2-4752-9EF5-5E8ABEEBA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741833-2AE8-4B05-8C46-31F50B88E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B6A0C-820B-4296-992F-40337FBE6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C27AAB-A31E-4F0D-A9AC-A37AB0C2A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23FA87-1F9B-47A9-9289-82A0134CCA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CE9321-1121-4A42-9530-D971BF0810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02A5FF-BE87-4658-BE29-987A6F354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F57CD6-6552-4B25-81EC-F7BF31EC2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BC86EF-A9D2-491A-AB77-CB33660BD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8044EE-E561-440D-85E8-42F321A46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0CB328-0024-4258-852E-CD5A4F32F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D268B8-1D7A-4C87-B726-488AE2B980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917A-1F99-4866-AAA2-ACE54334E00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D4C6-67C5-4FCF-ADBB-AC5ADABEC6C2}"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